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8.jpeg" ContentType="image/jpe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2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07/16/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3"/>
          </p:nvPr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4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EA62E903-7956-423D-B131-3A24559176C6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7F52F74D-090D-4DB9-8CE8-63D9517C744A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entury Gothic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8CD6-BF49-495C-970D-CA2941A01398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D624-C974-456A-8B24-F0154E33647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8FF7-8C15-43DF-85D3-ABE44ACE2118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9BA2-D0F5-4023-BDF3-59CBBAA40FB1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3DDE-99AD-42EC-B84A-CE8F859F8B47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entury Gothic"/>
              </a:rPr>
              <a:t>Mention previous attempts to deal with Global Aggregation in the individual jurisdictions – MOIP in ROI, SIMDRACS in SEM, and FEMO in NI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7774-627E-42C7-9CAF-F1AC2ADB737D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0CC2-5C45-49EA-A92B-436DF936271E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C325-23AB-49E3-ACA4-411347DB054A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1667-D065-47F2-A8AC-5E93EA293CF7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entury Gothic"/>
              </a:rPr>
              <a:t>On driver for change, refer to the very informative slides provided by Stephen Walsh and William Steele at the last working grou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A14A-A67D-4871-8B2B-C4EC7C169B1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86A4-C571-4509-8682-9676A174B086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B8EB-F522-49AE-A1CE-87AFF07775E6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E58C-7128-40F3-B38A-A51198C9A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5539-3DC2-4D62-8881-5821C8D67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9E11-4866-40B0-A7EB-A0767CC90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DC3E6-D591-4B19-8437-1E6B10D25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A66-E21B-41CC-9ACB-C9CF1B0ACD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D3F-DE35-4A75-B8DD-BDAC0E23C6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6A7-F222-469C-97B7-F40D3A0584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FF9-FFB3-454A-A520-8F1E550917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0C6-B0C6-417D-8F73-800934A287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BA2-8798-47DF-8108-D9B9C3B9C8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0E7-56E7-40AD-9933-70D2D6BF4F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4BAB-066F-4228-AD99-5F6CCD288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9CC-029F-4D63-A945-520AECE474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873-5915-4E38-91E2-CE16AED752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ACC-6165-49D5-95BC-A10192E0EE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6E8-43C7-469D-968C-6DEB8DC34A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7A7-1A6F-45FA-A672-ADA441F914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680E-5BC3-4ED0-8830-1A9EF54036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BF24-5E73-4658-8B7C-6B2FD41AD9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B963-C2BA-4CB5-A1FE-3DB2DCE477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9490-6F57-4B9D-83A9-8DD94ED3B0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8522-7832-41C2-9881-E7E5A18460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5718-F5E1-42D2-AC84-98AA2B22D2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A6D2-FC7A-44E3-84B8-9D191AEF84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0070-B14D-4DAB-AEE5-02F440E032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CC28-8DF0-48BC-878C-24E30F29E8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0719-6EEF-45CE-907F-B325776FCA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DF43-7C70-4F4D-81E3-4EB5EF1D2B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F5BF-5EF9-4417-AA93-35F5A85E29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2782-57F2-4C66-B816-56ECD505AC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1BAAA-23DF-4810-BE09-6C6F63E452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10927-62AA-4413-A428-05AB85A10E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1361F-BE9F-4E17-A79F-4DD589CA8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CD32-025A-4004-8081-7509F202FF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A32DC-55CA-4891-A9AB-548D754B54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F9F0D-EC92-46E7-AE9D-2FC1B7B52A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4E1B0-C928-41EE-BDF5-F76550B0FF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B8799-53CB-4C36-8305-B3EF0D862E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55F2E-8FEE-4FC0-9D13-8887ADD0EF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61A94-38DD-41C3-AF66-9FC9E6396D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A593E-34AF-4B3B-881C-5B95423371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9229E-1B0C-4FDC-8216-42AD1DEABD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DB833-497A-41D0-B6F9-45916A6382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5A9AE9-8239-49FF-8F88-F5A9FE40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90FA-4661-4437-9A86-4AAD1B52178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BF11F-8A64-4BF8-B0C7-3F1231E0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6886B1-FB7D-44DC-8FCE-8BAA0ED6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CC4164-C829-48FA-A72E-AE26313D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DD32D-0DE1-409D-B93B-0A1EB42B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48439C-8657-4DF7-ADFC-1A0FCE94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8C3065-ED7D-4873-A686-343C2399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8C6D98-53D8-4FD5-905C-02890613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CA89C6-618E-40C4-883C-63947ED1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2479C-ED05-4A97-A7DC-99B77DC6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90AF6-A652-4732-93FB-5502218B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9F76-F32F-4543-8584-14781DD156E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4B6FB-183B-4A6E-87E0-4D84C15C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38D3-11A9-47C4-9333-429DB5B9A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C6843-8D22-4E1D-B733-9FC948DDF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0C5E7-851F-42A8-A9F8-F43A28F31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580000" y="6552720"/>
            <a:ext cx="356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pyright EirGrid/SONI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28DB-71D3-4EF4-9E0E-EECA1F330D6C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5614920"/>
            <a:ext cx="1306440" cy="124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2F39-F017-4E10-AC39-23D0CAADBFD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C864-C063-4272-AEE0-FEDF0FA0FDF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ED5B-2A88-46EF-8174-132098BD642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SEMO LOGO"/>
          <p:cNvPicPr/>
          <p:nvPr/>
        </p:nvPicPr>
        <p:blipFill>
          <a:blip r:embed="rId2"/>
          <a:stretch/>
        </p:blipFill>
        <p:spPr>
          <a:xfrm>
            <a:off x="1692360" y="861840"/>
            <a:ext cx="5788080" cy="2422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3899-A12D-40C2-A349-B08DFE839D1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© EirGrid &amp; SONI,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056F-F8D8-4D13-B60F-5280D4994C38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7720" y="4962600"/>
            <a:ext cx="667692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Global Aggregation Work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IE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April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74720" y="2600280"/>
            <a:ext cx="77724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A88F-4143-4607-9ECD-DBE648AEC8A9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1266840"/>
            <a:ext cx="914400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EMO &amp; RA met December 1</a:t>
            </a:r>
            <a:r>
              <a:rPr b="0" lang="en-IE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to develop options pape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our options written up and circulated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A – recovered through SEMO balancing cos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B – smear across Suppliers based on annual factor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C – smear across Supplier based on monthly factor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D – as set out in modification propos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E843-A99A-4F90-8B63-DFE622B47C89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0" y="1266840"/>
            <a:ext cx="9144000" cy="43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esentations &amp; Discussion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presented on magnitude of actual error in ESU in RO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E presented on magnitude of actual error in ESU in N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MDPs presented results of impact assessment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RSO proposed option E, further enhancement on option 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8848-429E-424B-9CAD-D13F24FD2E34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1266840"/>
            <a:ext cx="9144000" cy="20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 of system impacts for the optio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436760" y="3036960"/>
          <a:ext cx="6095880" cy="14842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 T&amp;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0D01-AE59-470A-B399-936D79866EFA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0" y="1266840"/>
            <a:ext cx="914400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tion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MDPs to meet to further review options D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&amp; NIE to further develop option A+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to impact assess options A+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E PPB to consider how to deal with issue exclusively in the retail side of the mark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7855-06F6-43DD-87B5-1AC7C5F25406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1266840"/>
            <a:ext cx="914400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hat is Global Aggreg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cess of providing an aggregation for all registered Supplie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aggregation of Host Supplie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urrent implementation means Host Supplier calculated by differen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rror Supplier Unit in the SE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t just Host Supplier volumes but also other errors include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E33C-6182-4702-AA64-01A489F332C9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uses of imbalanc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2409840"/>
            <a:ext cx="91440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AF84-ECDF-4EA0-8E18-18874E5BBD60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uses of imbalanc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0" y="2467080"/>
            <a:ext cx="91440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48EE-2747-4C7C-92E8-582DC466414D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1266840"/>
            <a:ext cx="914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uses of imbalance?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correct profiles of non-interval meters considered chief contribu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55AC-9725-4506-A038-A05A5A4439BE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 developed in conjunction with ESSG in N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210816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Not dependent on the ESSG, ESSG being designed as GA read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0" y="29354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SSG timelines being followe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-7920" y="37702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iver for change is retail require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0" y="4605480"/>
            <a:ext cx="914400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ssue included in CER/10/058, decision on Roadmap to Deregul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8D47-F7E1-4F1A-AC81-AFD95803AF7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 34.09 raised by ESB C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-7920" y="21160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 proposes separation of SU into Interval SU and Non-Interval SU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0" y="29512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aised at Mods Meeting 24 (29.09.09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-7920" y="382896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s Panel recommended setting up Working Group to explore furth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0" y="469260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erms of reference for Working Group circulated, Nov 2009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3A46-58B5-43CE-B79A-96B9BE711DF4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26684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1, held on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November 2009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esentations &amp; Discussion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suggested assigning ESU to non-competing Party under the Cod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suggested simpler smear across all Supplier Unit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DPs presented on impact on system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reement that Global Aggregation required to ensure all Suppliers be treated equall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to assess the magnitude of the actual error in the ES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C5C2-ADB8-40A6-BFAC-0D255EF97026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0" y="1266840"/>
            <a:ext cx="914400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1, held on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November 2009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tion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RA to meet to further develop optio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&amp; NIE to provide estimation of erro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s Panel to decide if impact assessments should be sough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9:05:22Z</dcterms:created>
  <dc:creator>Brendan O'Sullivan</dc:creator>
  <dc:description/>
  <dc:language>en-US</dc:language>
  <cp:lastModifiedBy>Aisling O'Donnell</cp:lastModifiedBy>
  <cp:lastPrinted>2002-07-25T14:31:52Z</cp:lastPrinted>
  <dcterms:modified xsi:type="dcterms:W3CDTF">2010-04-27T08:01:04Z</dcterms:modified>
  <cp:revision>643</cp:revision>
  <dc:subject>Mod 34_09 Recao</dc:subject>
  <dc:title>SEMO</dc:title>
</cp:coreProperties>
</file>